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C1D0-90E9-4B83-8802-5D8C3EB79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6194-D434-4736-ACD6-D7ECC4B26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00CC-16C3-466A-9A0D-3D9AE78FF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84A7-F139-4679-AC9C-FF959A48B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02B7A1-593D-498F-A60A-46A6566F5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0B20A0-3130-4BC5-9179-1CB12C1B8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5480BF-554D-4A7B-9F30-5E39A4A5A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63F7D3-82E4-44DB-BBD4-775050DFE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3F419F-B5AF-4B6E-A7E4-2F89AD424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6A9AC6-0519-4FFF-874F-2A99F7323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E9F58E-DD16-4DA2-98CC-AA32A00F6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0306-966E-47B8-BF8D-4D357C8B2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4B2B0C-F9CA-4394-A669-8A075F633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26FF17-A938-467B-AAEC-1CF8C60C2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2618D7-438F-4056-9DB5-728F8EC2B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BB2CF7-99DB-4CB7-813C-13307C720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633F7D-5C22-4AA4-A13E-AF87AFDD5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FDD7-8718-4AD1-A28F-2BF731011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E00E-111B-4016-9012-BDE3B3BE8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4F46-20E2-47EC-B293-A19718B48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AD01-82FD-4364-961C-31B15C0B4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8617-08C7-4346-A4FB-2D2B2E36D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3A06-52A8-47F2-8F0A-A82A01D6D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E9C1-48AE-456F-BC35-4CF9DA329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80EBA-08EF-441E-B4FD-86E16884ED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1E2AC-B192-4C59-AFBA-63972B8E64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6643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-124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120"/>
            <a:ext cx="82296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nex 6 - Time budget model of the AIS servi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nd-to-end timing considera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aleness - when is data too old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ansmission queu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ultiple recep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67120"/>
            <a:ext cx="82296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nex 7 - Reliability model of the AIS servi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SS redundancy issues, etc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602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VDL Managemen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400040" y="1905120"/>
            <a:ext cx="63453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-68040"/>
            <a:ext cx="82296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nex 14 - FATDMA planning and operation of an AIS Servi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uidelines for FATDMA configuration setup of AIS shoresta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gorithm to calculate the FATDMA geographical gridscheme on a global bas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-68040"/>
            <a:ext cx="82296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nex 17 - Channel Management by an AIS Servi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uidelines for Channel Management for an AIS Servi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uidelines for the use of DSC capabilities with regard to the A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lculations with regard to DSC channel management comma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uidelines: Channel manage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67120"/>
            <a:ext cx="82296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nex 15 - Assigned mode operation of an AIS Servi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uidelines for Assigned Mode operation by ans AIS Servi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68040"/>
            <a:ext cx="82296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nex 18 - General loading management by an AIS Servi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pacity balance of the AIS VDL by AIS Service(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rvices operating on the VDL simultaneousl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67120"/>
            <a:ext cx="82296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Implementaton, installation and maintenan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457200" y="2413080"/>
            <a:ext cx="8229600" cy="30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-403200"/>
            <a:ext cx="8229600" cy="27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nex 13 - Recommendation regarding efficient operation and maintenance of the AIS Servi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4969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entral maintenance manage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t specific for the AIS service?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-68040"/>
            <a:ext cx="82296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nex 12 - Installation guidelines for AIS shore station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chnical guidance for installation of an AIS shorest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teraction between AIS related services and other (maritime mobile) services operating in the same shorest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ddressing coverage issu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ight be covered by referencing to another pap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omething might come from the guidelin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602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-124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3286080" y="1905120"/>
            <a:ext cx="2571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120"/>
            <a:ext cx="82296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unctional components of the AIS Servi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1728720" y="1905120"/>
            <a:ext cx="56880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67120"/>
            <a:ext cx="82296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nex 3 - Interaction model of the AIS servi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teraction between the components of the AIS Servi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67120"/>
            <a:ext cx="82296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e layerd structure of the AIS Servi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uidelines: The layers of AIS servi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67120"/>
            <a:ext cx="82296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nex 10 - Functional description of the PS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uidelines: Repeat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ata storag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hysical AIS Shore Station Lay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uidelines for secondary syncronisation by an AIS Servi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67120"/>
            <a:ext cx="82296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nex 9 - Functional description of the LS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ecase of the Logical AIS Shore st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uidelines on retransmission using VDM from an AIS Servi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uidelines: retransmiss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ata storag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67120"/>
            <a:ext cx="82296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nex 11 - Functional description of the ASM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e cases of the AIS service manage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ata storag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67120"/>
            <a:ext cx="82296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nex 16 - DGNSS broadcast from an AIS Servi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uidelines for DGNSS correction broadcast from an AIS Servi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terfacing the DGNSS correction service to the AIS Base St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uidelines: DGN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eds revis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riousl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02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Genera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457200" y="2921040"/>
            <a:ext cx="8229600" cy="20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602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ervice Mode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247760" y="1905120"/>
            <a:ext cx="66499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67120"/>
            <a:ext cx="82296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nex 1 - AIS Service Generic Use Cases (Basic AIS services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7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Functional interface between the shorebased applications and the AIS Service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7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Basic AIS Services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7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Other material: e-NAV1-09-07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7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Divide into ?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76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External AIS Services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7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These are the services provided to higher layers, for which interfaces are required 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76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Internal AIS services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7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covers internal management aspects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76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Failurre handeling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7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Stefan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68040"/>
            <a:ext cx="82296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nex 4 - Data and data storage / mining model of the AIS servi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21621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ata mining outside the AIS Servi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67120"/>
            <a:ext cx="82296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nex 5 - Interfacing model of the AIS Servi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IS Data Transfer Networ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uidelines: Data transf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mploying TCP/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P protocol'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eprocessing and interfacing to the AIS Networ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essaging sentences / structur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'IALA sentences'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IEC sentences (Base station sentence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120"/>
            <a:ext cx="82296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nex 8 - Test model for the AIS servi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st strateg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602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esign condiration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57200" y="2516040"/>
            <a:ext cx="8229600" cy="28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9T15:27:09Z</dcterms:created>
  <dc:creator>Jens Kristian Jensen</dc:creator>
  <dc:description/>
  <dc:language>en-US</dc:language>
  <cp:lastModifiedBy>Jens Kristian Jensen</cp:lastModifiedBy>
  <dcterms:modified xsi:type="dcterms:W3CDTF">2007-01-19T15:27:15Z</dcterms:modified>
  <cp:revision>1</cp:revision>
  <dc:subject/>
  <dc:title>A-124</dc:title>
</cp:coreProperties>
</file>